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gif" ContentType="image/gif"/>
  <Override PartName="/ppt/media/image7.png" ContentType="image/png"/>
  <Override PartName="/ppt/media/image1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2.png" ContentType="image/png"/>
  <Override PartName="/ppt/media/image19.gif" ContentType="image/gif"/>
  <Override PartName="/ppt/media/image24.png" ContentType="image/png"/>
  <Override PartName="/ppt/media/image21.gif" ContentType="image/gif"/>
  <Override PartName="/ppt/media/image20.png" ContentType="image/png"/>
  <Override PartName="/ppt/media/image18.png" ContentType="image/png"/>
  <Override PartName="/ppt/media/image15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99FE-B657-468C-9B4D-8817F658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61B6-C5A5-46C2-B614-EC011301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A14A-DD22-49B5-93FD-937D2AFD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C87D-9DFC-4DA1-80EF-5A158620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2515-75E8-4571-BCC2-603E9DB4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F356-7325-4301-B4A6-4DB01F4F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C5F8-C90D-4561-BFD7-918D7FCD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C9AA-7AF3-49BC-8FDE-8B3D6DD0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7D28-1C44-47E0-861C-743EAFFA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F8B9-8260-4A0C-9A75-5AD8D4A1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9A82-8DD2-4BFB-8067-499E216B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E0BE-6A3C-4FB6-B5BD-AE01A4BA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465E-0606-4381-8F61-CE5BA32F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3FC0-48F1-42C5-9A13-3E27084A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7EE6-5A4D-4F72-B477-F03347A5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AE4A-C3AE-49A7-9AFC-7079698C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2D94-882A-49C4-A486-F15F98A7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0EBD-79B2-4A98-AC85-56C02E5E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C339-0A20-4326-85BE-4F3A2CFB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9418-6FA1-489F-8002-FA763A5A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E380-3ACB-4A5A-9771-4CA10191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F72C-73F0-466C-A14D-5C828F52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2662-FC08-4069-AE63-DEB1521B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550F-84E7-4AD2-BEC8-B16AD509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9848-1BF5-46A5-B2C8-0292C8DDD0D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CAD0-F12A-4932-BA06-FB2AFA26F32E}" type="slidenum">
              <a:rPr b="0" lang="es-E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uaad.udg.mx/~lprado/portal-psic/Sistema%20visual/Analogia%20camara-ojo.htm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image" Target="../media/image22.png"/><Relationship Id="rId5" Type="http://schemas.openxmlformats.org/officeDocument/2006/relationships/image" Target="../media/image23.gif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udicion-cr.com/oido2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8000" y="691920"/>
            <a:ext cx="6702480" cy="24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TEMA 6: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ESTÍMULO Y RESPUESTA. RECEPTORES Y EFECT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79280" y="3573000"/>
            <a:ext cx="66308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 u="sng">
                <a:solidFill>
                  <a:srgbClr val="000000"/>
                </a:solidFill>
                <a:uFillTx/>
                <a:latin typeface="Arial"/>
              </a:rPr>
              <a:t>ÍNDIC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1. PERCEPCIÓN DEL MED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2. EL SENTIDO DEL TAC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3. LOS SENTIDOS DEL OLFATO Y EL GUS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4. EL SENTIDO DEL OÍ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5. EL SENTIDO DE LA VIS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6. LA ELABORACIÓN DE LA RESPUES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7. EL SISTEMA LOCOMOT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8. ARTICULACIONES Y MOVIMIEN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190080"/>
            <a:ext cx="77788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5. EL SENTIDO DE LA VIST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608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j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on los órganos donde reside el sentido de la v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structura del oj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Órganos anej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eja, párpado, pestañas, glándula lacri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Globo ocul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p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Esclerótica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capa externa, protege y da forma al ojo. Delante está la córnea (es transparent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oroid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apa oscura en el interior del oj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Retin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apa con los receptores visuales (conos y baston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istali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lente transparente tras el i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pil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abertura en el centro del i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ór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ri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músculo circular bajo la cór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En esta imagen se observa la anatomía interna del globo ocular. Tomada de perso.wanadoo.es\icsalud"/>
          <p:cNvPicPr/>
          <p:nvPr/>
        </p:nvPicPr>
        <p:blipFill>
          <a:blip r:embed="rId1"/>
          <a:stretch/>
        </p:blipFill>
        <p:spPr>
          <a:xfrm>
            <a:off x="4859280" y="2205000"/>
            <a:ext cx="4284720" cy="440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560" y="3068640"/>
            <a:ext cx="856908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 u="sng">
                <a:solidFill>
                  <a:srgbClr val="000000"/>
                </a:solidFill>
                <a:uFillTx/>
                <a:latin typeface="Arial"/>
              </a:rPr>
              <a:t>Funcionamiento del ojo: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la luz penetra por las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pupila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y gracias al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cristalino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las imágenes se forman en la retina. Los receptores de la retina captan la luz reflejada por los objetos y producen 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impulsos nervioso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que se transportan por el nervio óptico hasta el cerebr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er los objet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l ojo realiz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Acomod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el cristalino adapta la curvatura y permite que las imágenes se sitúen correctamente sobre la re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Regulación de la cantidad de luz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la pupila se cierra o abre en función de la intensidad lumin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cepto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dos tip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Baston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erciben luz d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baja intens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noc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Con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erciben lo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lo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dí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La imagen que se forma sobre la retina es invertida y de menor tamaño que la realidad; en la retina se genera un impulso eléctrico que llega a la corteza visual donde se produce la sensación de ver. Tomada de salud.discoveryespanol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0"/>
            <a:ext cx="626436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nomalías de la vis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Miopí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ongitud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xcesiv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l globo ocular que hace que los objetos se sitúen delante de la retina. Para corregirlo se usan lentes diverg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Hipermiopí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scas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ongitud del globo ocular que hace que los objetos se dibujen detrás de la retina. Se corrige con lentes converg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Astigmatism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rnea con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urvatura irregu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Se corrige con lentes cilíndr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Higiene de los oj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lavar, buena luz, distancias adecuadas, evitar leer en mov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Acomodacion"/>
          <p:cNvPicPr/>
          <p:nvPr/>
        </p:nvPicPr>
        <p:blipFill>
          <a:blip r:embed="rId1"/>
          <a:stretch/>
        </p:blipFill>
        <p:spPr>
          <a:xfrm>
            <a:off x="2124000" y="4862520"/>
            <a:ext cx="506268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6. LA ELABORACIÓN DE LA RESPUEST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496872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estímulos captados por los receptores y transformados en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impulsos nervioso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son enviados a la médula y al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cerebro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onde se </a:t>
            </a:r>
            <a:r>
              <a:rPr b="0" lang="es-ES" sz="2100" spc="-1" strike="noStrike" u="sng">
                <a:solidFill>
                  <a:srgbClr val="000000"/>
                </a:solidFill>
                <a:uFillTx/>
                <a:latin typeface="Arial"/>
              </a:rPr>
              <a:t>elaboran las órdenes de respuesta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 u="sng">
                <a:solidFill>
                  <a:srgbClr val="000000"/>
                </a:solidFill>
                <a:uFillTx/>
                <a:latin typeface="Arial"/>
              </a:rPr>
              <a:t>La corteza cerebral tien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Áreas sensitiv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onde 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mpulsos se traducen en sens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vemos, oímos, sentimos en el cereb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Áreas motor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roducen impul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rviosos que se conducen a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órganos efectores por medi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neuronas moto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La corteza cerebral está muy replegada para tener más superficie. Tomada de www.psicoactiva.com"/>
          <p:cNvPicPr/>
          <p:nvPr/>
        </p:nvPicPr>
        <p:blipFill>
          <a:blip r:embed="rId1"/>
          <a:stretch/>
        </p:blipFill>
        <p:spPr>
          <a:xfrm>
            <a:off x="5364000" y="2060640"/>
            <a:ext cx="37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-360" y="2204640"/>
            <a:ext cx="48243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 u="sng">
                <a:solidFill>
                  <a:srgbClr val="000000"/>
                </a:solidFill>
                <a:uFillTx/>
                <a:latin typeface="Arial"/>
              </a:rPr>
              <a:t>Los actos voluntario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on actos conscientes controlados de forma </a:t>
            </a:r>
            <a:r>
              <a:rPr b="0" lang="es-ES" sz="1700" spc="-1" strike="noStrike">
                <a:solidFill>
                  <a:srgbClr val="ff0000"/>
                </a:solidFill>
                <a:latin typeface="Arial"/>
              </a:rPr>
              <a:t>voluntaria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(andar, pensar) y provocados por estímulos (olor a comida-hambriento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áreas sensitiv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de la corteza cerebral reciben estímulos de los receptores sensit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 través de la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exiones nerviosas las áreas motor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reciben la información de las áreas sensitivas, la procesan y elaboran una respuesta consciente y volunt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respuesta es conducida por la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uronas motoras al órgano ef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59280" y="259920"/>
            <a:ext cx="4284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 u="sng">
                <a:solidFill>
                  <a:srgbClr val="000000"/>
                </a:solidFill>
                <a:uFillTx/>
                <a:latin typeface="Arial"/>
              </a:rPr>
              <a:t>Los actos reflejo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on respuestas </a:t>
            </a:r>
            <a:r>
              <a:rPr b="0" lang="es-ES" sz="1700" spc="-1" strike="noStrike">
                <a:solidFill>
                  <a:srgbClr val="ff0000"/>
                </a:solidFill>
                <a:latin typeface="Arial"/>
              </a:rPr>
              <a:t>rápidas y automáticas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sin control voluntario (tos, parpadeo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s-ES" sz="1700" spc="-1" strike="noStrike" u="sng">
                <a:solidFill>
                  <a:srgbClr val="000000"/>
                </a:solidFill>
                <a:uFillTx/>
                <a:latin typeface="Arial"/>
              </a:rPr>
              <a:t>órdenes son elaboradas por neuronas motoras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de la médula espina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Elementos que intervienen en un arco reflejo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eptor sensibl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al estím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urona sensitiv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estímulo del receptor → médu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urona de asocia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n la médula (conecta neurona sensitiva con moto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urona motor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transmite el mensaje al músculo correspond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úsculo efector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arco"/>
          <p:cNvPicPr/>
          <p:nvPr/>
        </p:nvPicPr>
        <p:blipFill>
          <a:blip r:embed="rId1"/>
          <a:stretch/>
        </p:blipFill>
        <p:spPr>
          <a:xfrm>
            <a:off x="5292720" y="4307040"/>
            <a:ext cx="3672000" cy="2550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Arco_reflejo"/>
          <p:cNvPicPr/>
          <p:nvPr/>
        </p:nvPicPr>
        <p:blipFill>
          <a:blip r:embed="rId2"/>
          <a:stretch/>
        </p:blipFill>
        <p:spPr>
          <a:xfrm>
            <a:off x="250920" y="189000"/>
            <a:ext cx="43592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84836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7. EL SISTEMA LOCOMOTOR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uesos y músculos esqueléticos se encargan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jecutar las respuestas motor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ordenadas por el sistema nervioso. La colaboración entre huesos y músculos nos permiten mantener la postura, desplazarnos, moverno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esquelet"/>
          <p:cNvPicPr/>
          <p:nvPr/>
        </p:nvPicPr>
        <p:blipFill>
          <a:blip r:embed="rId1"/>
          <a:stretch/>
        </p:blipFill>
        <p:spPr>
          <a:xfrm>
            <a:off x="6300720" y="2852640"/>
            <a:ext cx="2664000" cy="3745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sistfront"/>
          <p:cNvPicPr/>
          <p:nvPr/>
        </p:nvPicPr>
        <p:blipFill>
          <a:blip r:embed="rId2"/>
          <a:stretch/>
        </p:blipFill>
        <p:spPr>
          <a:xfrm>
            <a:off x="179280" y="2924280"/>
            <a:ext cx="2952720" cy="37447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3132000" y="2997360"/>
            <a:ext cx="302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Esquele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: armazón interno qu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ostiene, proteg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y es donde se insertan los músculos que permiten el movimiento. Tien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08 hues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Musculatura esquelét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: actúan sobre el esqueleto y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jecutan los movimientos voluntari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. Son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ás de 650 músculos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8. ARTICULACIONES Y MOVIMIENTO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6193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as articulacion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estructuras que unen los huesos del esqueleto y permiten la movilidad de la mayoría de sus piez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ipos según su movil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Inmóvil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cráneo) impide el movimiento de los hue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Semimóvil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vértebras) realizan pequeños desplazami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Móvil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cadera) gran movilidad entre los hue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lementos de una articulación móvil: </a:t>
            </a:r>
            <a:r>
              <a:rPr b="0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la rodi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igamento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ibras muy fuertes que unen los hue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rtílag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ejido cartilaginoso que recubre y protege los huesos en conta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ápsula sinovial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bolsa entre los huesos rellena de líquido sinov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Las vértebras se unen mediante articulaciones semimóviles"/>
          <p:cNvPicPr/>
          <p:nvPr/>
        </p:nvPicPr>
        <p:blipFill>
          <a:blip r:embed="rId1"/>
          <a:stretch/>
        </p:blipFill>
        <p:spPr>
          <a:xfrm>
            <a:off x="6443640" y="1628640"/>
            <a:ext cx="270036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58920" y="4723920"/>
            <a:ext cx="853416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cción de los músculos sobre el esquele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Tendone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rdones resistentes de tejido conjuntivo que unen los músculos a los hue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cias a las articulaciones los músculos mueven los huesos. Los músculos trabajan coordinadamente por parejas que funcionan de form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ntagónic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bíceps-trícep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Radiografía de fractura de femur"/>
          <p:cNvPicPr/>
          <p:nvPr/>
        </p:nvPicPr>
        <p:blipFill>
          <a:blip r:embed="rId1"/>
          <a:stretch/>
        </p:blipFill>
        <p:spPr>
          <a:xfrm>
            <a:off x="6300720" y="1989000"/>
            <a:ext cx="2448000" cy="2592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ligamens"/>
          <p:cNvPicPr/>
          <p:nvPr/>
        </p:nvPicPr>
        <p:blipFill>
          <a:blip r:embed="rId2"/>
          <a:stretch/>
        </p:blipFill>
        <p:spPr>
          <a:xfrm>
            <a:off x="1476360" y="2421000"/>
            <a:ext cx="3382920" cy="1944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1403280" y="0"/>
            <a:ext cx="727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esiones en el sistema locomoto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Contracturas musculares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Fracturas óseas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Luxaciones (salida de los huesos de las articulaciones)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Esguinces (lesión de ligamentos)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Roturas de ligamentos y cartílagos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258920" y="620640"/>
            <a:ext cx="763416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000000"/>
                </a:solidFill>
                <a:uFillTx/>
                <a:latin typeface="Arial"/>
              </a:rPr>
              <a:t>Las palancas del cuerpo humano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uesos y articulacion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nstituyen un sistema de palancas sobre las que actúan los múscul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la palanca se distinguen 3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leme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Punto de potencia (P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onde se aplica la fuer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Punto de apoyo (A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onde se sustenta la palan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Punto de resistencia (R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onde se sitúa la fuerza que hay que ven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1" descr="palosea"/>
          <p:cNvPicPr/>
          <p:nvPr/>
        </p:nvPicPr>
        <p:blipFill>
          <a:blip r:embed="rId1"/>
          <a:stretch/>
        </p:blipFill>
        <p:spPr>
          <a:xfrm>
            <a:off x="1476360" y="3645000"/>
            <a:ext cx="7272360" cy="321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547640" y="259920"/>
            <a:ext cx="7010640" cy="18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ipo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palancas según la disposición de sus elementos: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rimer géne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ermite mucha movilidad,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tencia y acciones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egundo géne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vence grandes resistencias, n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ndes desplazamientos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ercer géne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xtensos desplazamientos, n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nce resistencias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nimapal1"/>
          <p:cNvPicPr/>
          <p:nvPr/>
        </p:nvPicPr>
        <p:blipFill>
          <a:blip r:embed="rId1"/>
          <a:stretch/>
        </p:blipFill>
        <p:spPr>
          <a:xfrm>
            <a:off x="179280" y="2565360"/>
            <a:ext cx="2849760" cy="2136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palosea3"/>
          <p:cNvPicPr/>
          <p:nvPr/>
        </p:nvPicPr>
        <p:blipFill>
          <a:blip r:embed="rId2"/>
          <a:stretch/>
        </p:blipFill>
        <p:spPr>
          <a:xfrm>
            <a:off x="5830920" y="4941720"/>
            <a:ext cx="3313080" cy="1354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animapal2"/>
          <p:cNvPicPr/>
          <p:nvPr/>
        </p:nvPicPr>
        <p:blipFill>
          <a:blip r:embed="rId3"/>
          <a:stretch/>
        </p:blipFill>
        <p:spPr>
          <a:xfrm>
            <a:off x="3203640" y="256536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palosea2"/>
          <p:cNvPicPr/>
          <p:nvPr/>
        </p:nvPicPr>
        <p:blipFill>
          <a:blip r:embed="rId4"/>
          <a:stretch/>
        </p:blipFill>
        <p:spPr>
          <a:xfrm>
            <a:off x="3995640" y="4724280"/>
            <a:ext cx="1505160" cy="1676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animapal3"/>
          <p:cNvPicPr/>
          <p:nvPr/>
        </p:nvPicPr>
        <p:blipFill>
          <a:blip r:embed="rId5"/>
          <a:stretch/>
        </p:blipFill>
        <p:spPr>
          <a:xfrm>
            <a:off x="6156360" y="256536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palosea1"/>
          <p:cNvPicPr/>
          <p:nvPr/>
        </p:nvPicPr>
        <p:blipFill>
          <a:blip r:embed="rId6"/>
          <a:stretch/>
        </p:blipFill>
        <p:spPr>
          <a:xfrm>
            <a:off x="324000" y="4869000"/>
            <a:ext cx="2612880" cy="16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1. LA PERCEPCIÓN DEL MEDIO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"/>
              </a:rPr>
              <a:t>Receptores sensitivos: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convierten estímulos físico-químicos en impulsos nerviosos, que son transmitidos por el sistema nervioso periférico hasta el sistema nervioso centr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ímul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on cambios ambientales que pueden ser detectados por nuestro organismo. Los estímulos son captados por unas células nerviosas sensibles= recep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pos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ceptore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egún su localiz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Internos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interorreceptores) informan sobre el estado y funcionamiento de órganos inter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Extern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exterorreceptores) captan estímulos exteriores, se localizan en la superficie de nuestro organis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pos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cepto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egún el estímulo que recib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Mecanorreceptor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mbios de pres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Termorreceptores: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mbios de temperatu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Quimiorreceptores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ustancias quími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Fotorreceptor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nsibles a la lu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 u="sng">
                <a:solidFill>
                  <a:srgbClr val="000000"/>
                </a:solidFill>
                <a:uFillTx/>
                <a:latin typeface="Arial"/>
              </a:rPr>
              <a:t>ESQU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mapa"/>
          <p:cNvPicPr/>
          <p:nvPr/>
        </p:nvPicPr>
        <p:blipFill>
          <a:blip r:embed="rId1"/>
          <a:stretch/>
        </p:blipFill>
        <p:spPr>
          <a:xfrm>
            <a:off x="179280" y="1916280"/>
            <a:ext cx="8659800" cy="394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476360" y="189000"/>
            <a:ext cx="70581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os órganos de los sentid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26920" y="3716280"/>
          <a:ext cx="7850520" cy="2676600"/>
        </p:xfrm>
        <a:graphic>
          <a:graphicData uri="http://schemas.openxmlformats.org/drawingml/2006/table">
            <a:tbl>
              <a:tblPr/>
              <a:tblGrid>
                <a:gridCol w="1186200"/>
                <a:gridCol w="1258560"/>
                <a:gridCol w="1406520"/>
                <a:gridCol w="1408320"/>
                <a:gridCol w="1481040"/>
                <a:gridCol w="1109880"/>
              </a:tblGrid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ido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TACTO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OLFATO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GUSTO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OÍDO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VISTA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ímulo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ión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ncias químicas gaseosa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ncias químicas disuelta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bracione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rgano receptor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l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sas nasale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ua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ído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jo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Picture 41" descr="Los sentidos nos permiten recibir información de nuestro mundo."/>
          <p:cNvPicPr/>
          <p:nvPr/>
        </p:nvPicPr>
        <p:blipFill>
          <a:blip r:embed="rId1"/>
          <a:stretch/>
        </p:blipFill>
        <p:spPr>
          <a:xfrm>
            <a:off x="3132000" y="692280"/>
            <a:ext cx="283860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2. EL SENTIDO DEL TACTO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424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 u="sng">
                <a:solidFill>
                  <a:srgbClr val="000000"/>
                </a:solidFill>
                <a:uFillTx/>
                <a:latin typeface="Arial"/>
              </a:rPr>
              <a:t>La piel: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reviste, protege el cuerpo y contiene los receptores táctiles. Está constituida por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dos capa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pidermi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a más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superfici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está constituida por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tejido epiteli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varias capas. Las capas superficiales están cubiertas de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queratin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impermeabiliza y melanocitos que producen un pigmento (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melanin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da color a la pie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la epidermis deriv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uñas (proteg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pelos (termoregula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glándulas sebáceas (grasa impermeabilizan el pel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glándulas sudoríparas (sudor refrigera la pie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ermi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a má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rofun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constituida de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tejido conjuntiv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Tiene vasos sanguíneos, músculos y receptores táctiles. Debajo del tejido conjuntivo hay una capa de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tejido adipos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protege y sirve de aislante térm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897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000000"/>
                </a:solidFill>
                <a:uFillTx/>
                <a:latin typeface="Arial"/>
              </a:rPr>
              <a:t>Los receptores táctiles: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son terminaciones nerviosas libres o encerradas en cápsulas que se hayan dispersas por la pie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eptore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egún el estímu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Corpúsculos de Meissne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resiones ligeras de conta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Corpúsculos de Pacini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resiones fuertes y vibr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Corpúsculos de Ruffini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tacto, presión y aumento de temp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Corpúsculos de Krau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scenso de tempera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Terminaciones nerviosas lib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sensación de dolor, calor y temp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000000"/>
                </a:solidFill>
                <a:uFillTx/>
                <a:latin typeface="Arial"/>
              </a:rPr>
              <a:t>Higiene de la piel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: limpieza con agua y jabón, duch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La piel es un órgano muy complejo que alberga a los receptores del tacto y del dolor. Adaptada de salud.discoveryespanol.com"/>
          <p:cNvPicPr/>
          <p:nvPr/>
        </p:nvPicPr>
        <p:blipFill>
          <a:blip r:embed="rId1"/>
          <a:stretch/>
        </p:blipFill>
        <p:spPr>
          <a:xfrm>
            <a:off x="5076720" y="692280"/>
            <a:ext cx="4067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3. EL SENTIDO DEL OLFATO Y EL GUSTO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2349000"/>
            <a:ext cx="3995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Olfat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localiza en las fosas nasales. Esta cavidad está revestida por el epitelio de l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mucosa nasal= Pituitar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tiene dos zon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Pituitaria Roj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arte inferior y media de la cavidad. Tiene abundantes capilares que calientan el 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Pituitaria Amarill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arte superior de las fosas nasales. Tiene los receptores olfativos con células ciliadas que reciben y transportan estímu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32640" y="1628640"/>
            <a:ext cx="81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6666"/>
                </a:solidFill>
                <a:latin typeface="Arial"/>
              </a:rPr>
              <a:t>Los sentidos del olfato y el gusto trabajan conjuntamente para que se aprecie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6666"/>
                </a:solidFill>
                <a:latin typeface="Arial"/>
              </a:rPr>
              <a:t>y reconozcan los sabores característicos de los alimentos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50920" y="609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5" name="Picture 12" descr="Los receptores del olfato se encuentran en la cavidad nasal. Adaptada de psyserver.pc.rhul.ac.uk"/>
          <p:cNvPicPr/>
          <p:nvPr/>
        </p:nvPicPr>
        <p:blipFill>
          <a:blip r:embed="rId1"/>
          <a:stretch/>
        </p:blipFill>
        <p:spPr>
          <a:xfrm>
            <a:off x="4284720" y="2924280"/>
            <a:ext cx="4680000" cy="35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4292280"/>
            <a:ext cx="83548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Gusto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os receptores están en los botones gustativos de las papilas de la lengua, paladar, faringe y laringe. Hay receptores para cuatro tipos de sabores: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ulc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alado, ácido y amar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El sabor es una combinación del sentido del gusto y del olfato. Tomada de www.msd.es"/>
          <p:cNvPicPr/>
          <p:nvPr/>
        </p:nvPicPr>
        <p:blipFill>
          <a:blip r:embed="rId1"/>
          <a:stretch/>
        </p:blipFill>
        <p:spPr>
          <a:xfrm>
            <a:off x="1187280" y="189000"/>
            <a:ext cx="6769440" cy="389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Rectangle 5"/>
          <p:cNvSpPr/>
          <p:nvPr/>
        </p:nvSpPr>
        <p:spPr>
          <a:xfrm>
            <a:off x="327240" y="6093000"/>
            <a:ext cx="66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igiene del olfato y gust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impieza y cepillado de los dientes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4. EL SENTIDO DEL OÍDO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622764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íd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on lo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órganos de la audición y del equilibr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structura del oíd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se distinguen tres pa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Oído exter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formado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abellón de la orej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repliegue de la piel y cartílag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nducto auditivo exter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n glándulas que produc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erumen y cerrado en su extremo final por 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ímp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Oído med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tiene tre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huesecill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cadenados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rtillo, yunque y estrib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conectan el tímpano con el oído inte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unica con la faringe a través de l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rompa de Eustaqu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equilibra la presión a ambos lados del tímpan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Oído inter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formado por un laberinto óse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lleno de un líquid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perilinfa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ntro hay otro laberinto membranoso relleno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dolinf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laberinto tiene dos par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anales semicircula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entido del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quilib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óclea o caraco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reside el sentid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udi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&quot;Estructura interna de oído. Adaptado de www.tchain.com&quot;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565360"/>
            <a:ext cx="27716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435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uncionamiento del oíd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fun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La audición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as ondas sonoras las recoge e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bellón auditiv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→ conducto auditivo → vibra e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ímpa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→ cadena de huesecillos → líquidos de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raco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→ mecanorreceptores sensibles convierten el estímulo en impulsos nerviosos → nervio auditivo → cereb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El equilibri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l mover la cabeza se mueve 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dolinf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→ mueve 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ceptore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la pared → lo transforma e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ulsos nervios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→ manda la información al cereb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cepto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l oído perciben vibraciones y producen impulsos nerviosos que son transportad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or el nervio auditivo al cereb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Higiene del oíd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impiar con agua y jabón, evitar música muy alta, no introducir obj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Laberinto membranoso, estructura que alberga a los receptores del oído y del equilibrio. Adaptada de www.tchain.com"/>
          <p:cNvPicPr/>
          <p:nvPr/>
        </p:nvPicPr>
        <p:blipFill>
          <a:blip r:embed="rId1"/>
          <a:stretch/>
        </p:blipFill>
        <p:spPr>
          <a:xfrm>
            <a:off x="4427640" y="333360"/>
            <a:ext cx="45370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5:14:43Z</dcterms:created>
  <dc:creator>Meri</dc:creator>
  <dc:description/>
  <dc:language>en-US</dc:language>
  <cp:lastModifiedBy>Centor</cp:lastModifiedBy>
  <dcterms:modified xsi:type="dcterms:W3CDTF">2016-03-19T18:18:49Z</dcterms:modified>
  <cp:revision>59</cp:revision>
  <dc:subject/>
  <dc:title>TEMA 6: ESTÍMULO Y RESPUESTA. RECEPTORES Y EFECTORES</dc:title>
</cp:coreProperties>
</file>